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9B1-1391-40A6-981F-A42B1F73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6CB-4CD4-42E8-B597-804F54D4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128-B9FF-469D-BA8E-B6BC2674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6AF-0D0C-46B1-9052-4C2F61B3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F1F-88E2-4C15-98F1-3E7B122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B46-E826-4C80-BC4C-474B1BFF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9DA-4017-40B7-875B-5C8F6D59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F9F-5E5E-451D-BC58-A69E6DAE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4A1-1F2B-42AC-B040-49AA5E2C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928-E6A3-49B9-8645-B53CE44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56F-0AD2-4A68-84EE-060F382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9D4-C962-4474-8F1F-1F2CE01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E412-2209-47EE-BAB6-D530FC526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wikipedia.org/" TargetMode="External"/><Relationship Id="rId3" Type="http://schemas.openxmlformats.org/officeDocument/2006/relationships/hyperlink" Target="http://www.iranmehr.com/" TargetMode="External"/><Relationship Id="rId4" Type="http://schemas.openxmlformats.org/officeDocument/2006/relationships/hyperlink" Target="http://www.payvand.com/" TargetMode="External"/><Relationship Id="rId5" Type="http://schemas.openxmlformats.org/officeDocument/2006/relationships/hyperlink" Target="http://www.nationsencylopedia.com/" TargetMode="External"/><Relationship Id="rId6" Type="http://schemas.openxmlformats.org/officeDocument/2006/relationships/hyperlink" Target="http://www.news.bbc.co.uk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8338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9" t="85465" r="1669" b="1244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669" t="1244" r="1669" b="86677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669" t="1244" r="1669" b="1244"/>
          <a:stretch/>
        </p:blipFill>
        <p:spPr>
          <a:xfrm>
            <a:off x="0" y="380880"/>
            <a:ext cx="9144000" cy="614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dobe Caslon Pro Bold"/>
              </a:rPr>
              <a:t>Ira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Rachel S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April Henn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Peri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dobe Caslon Pro Bold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2"/>
              </a:rPr>
              <a:t>www.wikipedia.org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8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3"/>
              </a:rPr>
              <a:t>www.iranmehr.com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8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4"/>
              </a:rPr>
              <a:t>www.payvand.com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5"/>
              </a:rPr>
              <a:t>www.nationsencylopedia.com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dobe Caslon Pro Bold"/>
                <a:hlinkClick r:id="rId6"/>
              </a:rPr>
              <a:t>www.news.bbc.co.uk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dobe Caslon Pro Bold"/>
              </a:rPr>
              <a:t> – Februar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884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Th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Location:  Iran is located in the Middle East, bordering the Gulf of Oman, the Persian Gulf, and the Caspian Sea.  It is between Iraq and Pakis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Landforms:  The Zagros mountain range and the Alborz mountain range are found in Iran.  Also common to Iran are various des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3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Caslon Pro Bold"/>
              </a:rPr>
              <a:t>The Land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Water systems:  The Caspian Sea and the Persian Gulf are found around I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Natural Resources:  In Iran, petroleum, natural gas, coal, chromium, copper, iron ore, lead, manganese, zinc, and sulfur a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27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Climate and 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Native Wildlife:  Asiatic cheetah, bears, gazelles, wild pigs, wolves, jackals, panthers, Eurasian lynx, 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Common Vegetation:  Fruits and flowers, mainly anything that will grow in this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86200" y="4191120"/>
            <a:ext cx="502920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08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600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Caslon Pro Bold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Political Leaders:  Ayatollah Ali Khamenei and Mahmoud Ahmadinej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Type of Government:  Theocratic Re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Life Expectancy:  69.3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Population:  68,278,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8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History and Curr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2 Important Historical Ev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dobe Caslon Pro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After World War 2, the world went straight into the Cold W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dobe Caslon Pro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The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1 Current Ev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dobe Caslon Pro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Caslon Pro Bold"/>
              </a:rPr>
              <a:t>Disagreements with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673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Type of Industry:  Oil refining, petrochemicals, steel, and c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Major Exports:  Oil, fruits, nuts, animal hides, processed foods, and sp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Literacy Rate:  79.4% of people age 15 and over can read and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Currency:  Iranian 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107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Traditional Clothing: 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Heads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carves, long skirts, vests,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Traditional Foods:  Rice,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khoresht,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aash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, kookoo, pollo, </a:t>
            </a: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dobe Caslon Pro Bold"/>
              </a:rPr>
              <a:t> 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Languages Spoken:  Persian, Turkic, Kurdish, Luri, Balochi, Arabic, and Turk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Religions Practiced:  Muslim, Zoroastrian, Jewish, Christian, and Baha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obe Caslon Pro Bold"/>
              </a:rPr>
              <a:t>Architecture/Building Styles:  Buildings in Iran often feature circle and square designs, as well as columned porches.  They are also made with clay or m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776000">
            <a:off x="668160" y="396360"/>
            <a:ext cx="205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dobe Caslon Pro Bold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018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Caslon Pro Bold"/>
              </a:rPr>
              <a:t>Places to Vis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Tourist Attractions:  </a:t>
            </a: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Skiing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, beaches, and ga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Significant Historical Sites:  The cities of </a:t>
            </a:r>
            <a:r>
              <a:rPr b="0" lang="en-US" sz="3200" spc="-1" strike="noStrike">
                <a:solidFill>
                  <a:srgbClr val="ffffff"/>
                </a:solidFill>
                <a:latin typeface="Adobe Caslon Pro Bold"/>
              </a:rPr>
              <a:t>Esfahan</a:t>
            </a:r>
            <a:r>
              <a:rPr b="0" lang="en-US" sz="3200" spc="-1" strike="noStrike">
                <a:solidFill>
                  <a:srgbClr val="000000"/>
                </a:solidFill>
                <a:latin typeface="Adobe Caslon Pro Bold"/>
              </a:rPr>
              <a:t> and Persepo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9422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38:21Z</dcterms:created>
  <dc:creator>rachelgsidor</dc:creator>
  <dc:description/>
  <dc:language>en-US</dc:language>
  <cp:lastModifiedBy>rachelgsidor</cp:lastModifiedBy>
  <dcterms:modified xsi:type="dcterms:W3CDTF">2009-02-24T14:48:31Z</dcterms:modified>
  <cp:revision>11</cp:revision>
  <dc:subject/>
  <dc:title>Iran</dc:title>
</cp:coreProperties>
</file>